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DB2-5A68-4B61-A76A-E52D7979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F54-0401-488A-964E-7AB9B208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BBA-F01A-4284-B721-29DDDD21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ED8-A380-4400-8F6C-3921F6C9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5B0-26E0-449A-B473-453F57E8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B51-0E79-4416-8B42-6353E3D3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703-7CEE-4D5F-8DEC-DBD24E7A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EF8-CE4C-48FA-AC67-45DA06FB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A29-6686-425C-9D43-F512A70F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23D-A499-4B8B-A96B-1C27679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C39-FE54-4BA0-83EB-2D4499E5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AC5-D2DD-49C8-BEA0-FBE1F41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5DFA-C6F5-4F97-896C-347F8FC95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ly 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54816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2203200" cy="140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6:27:10Z</dcterms:created>
  <dc:creator>Deborah Williams</dc:creator>
  <dc:description/>
  <dc:language>en-US</dc:language>
  <cp:lastModifiedBy>Deborah Williams</cp:lastModifiedBy>
  <cp:lastPrinted>2013-03-06T16:36:36Z</cp:lastPrinted>
  <dcterms:modified xsi:type="dcterms:W3CDTF">2013-03-06T16:37:24Z</dcterms:modified>
  <cp:revision>2</cp:revision>
  <dc:subject/>
  <dc:title>Sally Ride</dc:title>
</cp:coreProperties>
</file>